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559-57F7-4835-A3F8-A55D9FD6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C94-1932-4515-B2DD-2CE0787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92E-0DD0-4BE1-AF1E-0E0C90C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0F0-3821-482F-815F-92709507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88E-8992-47BE-8BD2-9F0836D6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BCD-4246-4DD2-82F8-B351D08D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82A-1C14-4EAE-9D51-881BC2C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D56-82E2-4EC4-B47E-CB52CBA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308-9FF3-4F18-9265-ED1FE7FF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6EB-AEE0-49EE-8C77-FB8822A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FDE-0254-48D3-9445-34B4302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EA8-38A6-4FCC-BD30-41E5BB90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43C5-34BB-476F-A264-93CE0B50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rough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go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6:48:18Z</dcterms:created>
  <dc:creator>jacourtney</dc:creator>
  <dc:description/>
  <dc:language>en-US</dc:language>
  <cp:lastModifiedBy>V.henshaw</cp:lastModifiedBy>
  <dcterms:modified xsi:type="dcterms:W3CDTF">2004-09-24T21:12:13Z</dcterms:modified>
  <cp:revision>4</cp:revision>
  <dc:subject/>
  <dc:title>First Grade Site Words</dc:title>
</cp:coreProperties>
</file>